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894-6CA0-49F2-8408-0B942D92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0BF-BEA6-47D6-B505-F53DCE4E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E52-A3E6-496C-B9B2-84C4EC12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E1B-10F3-4A49-A66D-F7B7834D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BE6C-44BC-43E0-9CED-DAA21D1E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38A2-9D15-4EE3-878F-2A37B76D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E183-5812-4C5C-873D-3A0F7FD1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AD63-DA73-4D52-BDAA-C5E8E5D3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7411-DF03-4CA0-8745-B97425D3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4110-9D37-4BF0-BB0B-F76FD226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5327-E0E6-4D84-B08B-9506AF68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440-C628-4732-B4CF-E03DC95A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D361-1ED8-4498-BE1E-8856E6F4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3A61-C1DA-4E6B-88BA-1FF8B4C2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173A-3869-45EE-9C95-5FF5A4DC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4629-C067-4F39-8403-07F58436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4455-B420-44ED-AE99-A03DEC28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E33-DDCD-4644-A0C9-5A0FBBF3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02A-9F3F-4A12-BD66-6C24F3DD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AB5-5323-4ADE-86D7-5E5863F4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B63-DFBA-4F2C-8581-F117F20B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EB9-181F-4A40-98DD-D20E2D52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8B0-A65C-4D09-92DE-A1FF2E84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55F0-A16E-4FDC-B2D8-C535DB11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C5E8-1053-4461-8873-918F22843D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364B-0405-4EFD-BAE5-DF4F47FA5A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sing Children’s Literature to Teach Writing/Word Study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53388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lli D. Harr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ring 200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on’t Forget Poetry!!!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to read children’s litera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Aloud – Connect same books to reading comprehension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red Reading – everyone has a co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ing Mini-Less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d Stud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c Lesson Pla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fore Re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oduce Book/Identify purpose for rea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Re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explicit connections between reading and writing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 out examples of language, transition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Re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ss author’s strateg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ose one focus for a mini lesson (ie-precise languag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s apply strategy to their own reading and writing/Confer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s sh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y It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a book on your 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the boo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de what feature/principle(s) could be taught from the book.  Where does it fit on the continuu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could the book be used to generate examples of the princip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re other books you might use to teach word study/wri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1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studying 1-2 authors at each grade level in dep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-2 – Dr. Seuss/Eric Carle/Jan Brett/Frank As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5 – Cynthia Rylant/Mem Fox/Avi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ry Paulsen/Eve Bun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Fun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bout the Authors:  Writing Workshop with Our Youngest Writ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Katie Wood R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ous booklists to help with identifying fea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 Id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-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No, David, or another story w/ little detail.  Add details to the B/M/E to rewrite the story for older kids to rea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687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best way to learn to write is to read a lot.  Unless you are a reader, you cannot become a writer.  The more you read, the better your writing will be.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vi 199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y use children’s literature to teach writing/word stud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 awareness to sounds, letters, and words.  Develop word consciousn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 good writing trai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c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and Elabo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yle (new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n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 students choose topic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awareness to audience and purpo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tivate students to read and wr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unds of Language/Word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arts/Chun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End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omatopoe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gurative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/Precise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Mean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s of Spe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 Ja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words that tickle the ears, warm the heart, make them wonder, make them smart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net Allen (1999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 Study Less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Meaning/Vocabulary Less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14 (p.301) – Ver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16/17 – Adjecti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18 – Nou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20 – Extending Word Knowled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Solving A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13 (p.481) Using Context to Figure Out New Wo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ocu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rrow Focus/Small Mo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wl Mo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ght Whisp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c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ir For My M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tention to Audience/Purpo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laboration/Style El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evant Detai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ise Language/Sensory Wo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c Nou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jecti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/Indirect Feeling Refer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iles/Metaphors/Idio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t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ence Varie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ear Beginning, Middle, E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aging Beginn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ughtful E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nven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ition Words/Phrases Gramm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l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chanics/ Punctuation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07:16:42Z</dcterms:created>
  <dc:creator>Randolph County Schools</dc:creator>
  <dc:description/>
  <dc:language>en-US</dc:language>
  <cp:lastModifiedBy>Randolph County Schools</cp:lastModifiedBy>
  <dcterms:modified xsi:type="dcterms:W3CDTF">2006-02-01T22:09:58Z</dcterms:modified>
  <cp:revision>10</cp:revision>
  <dc:subject/>
  <dc:title>Using Children’s Literature to Teach Writing</dc:title>
</cp:coreProperties>
</file>